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0FD2-D553-41D9-B4D3-E0E2B982E90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65FB-BC67-4608-B7F9-E22257E5E4A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0927-04CB-4BEB-A8D9-C76E9729BCA6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A893-032C-4D9A-A4D8-5A02A115EE6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5530-E490-4108-9690-0D019DD7891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BCD3-1E81-4F93-938A-532312523AF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61AE-DB04-486B-BF16-AD1E62CFE38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81AB-C209-4202-A05D-D7720595BF3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53A6-6680-45FC-9392-4F1B29A4C7C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9954-333D-486C-AD28-8D120B4FF06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B12C-87E5-462C-A48F-25E3EA8B587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28F4-B015-44B9-8489-B294068764B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4766-32E1-4F3C-A9EF-4F25B317406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19B4-6A1A-4153-9DC0-9E60F19E900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1F30-C09D-4EFF-AB7E-7BC18B1A0A9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5DC1-B57E-435D-A23B-E3D4AD3CEE7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AAE5-DBA9-4CC1-8856-7E4088A4F8C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6662-5AF1-4400-918D-1FCEAD74E6A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751C-36CA-45B1-A09D-158D1960240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E032-3DC0-465F-819E-225C46CA1CC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0253-3FD4-4E1C-9D80-0D6A27E2D6A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85A4-7003-4DCD-B5EE-5BB32D7D486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861F-D50D-449A-ACC8-74537AA1BB1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58D1-42E3-4C80-A449-AE7B10964F9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A136-3A19-4964-B428-0245C94B719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A999-FD54-4F61-95CF-B2FD8B18DFF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54E9-689B-4A99-8389-C17D84D5114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5F12-D281-43DD-854C-4681DB73040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4740-AC44-4599-9907-E001658BCFF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B824-96DF-435E-B717-7EB1DE6EF42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614A-E8C6-454A-A56F-C09F5E90837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0D42-7178-4550-A917-E50D46B85EC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E61A-7C4E-4B2D-BE15-5BFD39E211F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9CD8-1AD2-4362-A202-CEF40FEDADC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72F6-20B1-4898-9E48-88347329E88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28B4-D110-4BF4-8B30-5273936E7D2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2573-86F6-4C5E-BD9E-A9DCFBAEC6A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E3F7-8105-47BD-9658-687F109C37F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4C89-4AF5-4DBF-96C3-FFB0A82E208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1D10-FCE2-4C13-B6D1-CC4015B8A90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AE45-D65A-4B98-88A0-0D7D738ABE2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D56B-1372-40DB-8E97-1149F5FAB09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ECBD-AB69-4461-B9C8-FB06F35ADCD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6FA6-073A-4C47-9BF6-A04B1CEE31B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5192-D150-4736-98CE-4CB973B44ACF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B723-60C4-4A3C-9B14-DDD330AB562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FD62-A333-493D-9794-7ABDF4B8CE4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174A-2714-4B78-AEFA-B2CE565C5FF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DD90-D014-4AC0-A6B8-7E15521492D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E747-69E9-4AF2-857A-E64D9DC3642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7C94-2376-44A6-9B45-45F8585106E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D78F-5E55-4795-B85D-57183B15913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A402-0B6F-4A21-9788-D4F203B9407F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9E9D-7350-482A-99C6-F605C6F2E5D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1627-AF01-49EE-9886-9F115431AC4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C145-804A-4C49-A397-C63ABB0A819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270D-7338-45DD-A7B2-77691219B32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F93E-E2CD-4C74-9CCF-7C48D959D56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60C8-4B9A-473B-AC0E-277C3556E87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409C-2F41-4954-BB8C-D894A38EB44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A062-B3F9-4AFD-ADD4-FB1E6B5D88E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D6ED-169E-4E6C-88E3-FA49DD32E37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A2A6-E088-4AD7-AB3D-6E695272F6A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BB1A-EFEF-4D6F-AC7F-9242A5A28E7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C56A-EDBA-4F1E-B87C-C85D1D97B116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DCA5-AAD1-47EE-9E2E-38CBACB5749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CD74-68A1-4214-A10A-6DE40C48904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903D-AEF3-451C-9696-7C9E0ACE56F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05F0-9745-44E8-BB80-2BCD49583AE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DB8C-EB7E-4609-BEC8-5C5F3DB328A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92FE-54B4-4D05-82EE-E32BA8B4305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F3CD-63ED-4967-9FB6-B1A36EFA65D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061F-0ABB-429F-90C9-0991C964D1F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5838-2564-4622-B266-C87187EC17A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7FE8-1D76-48AC-8A3D-DA1C93BC74F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3B07-223E-4793-BABE-EEDBB5B5645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54C9-B649-45A5-91F5-2B29142CBEC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3CBA-99D6-4638-98D9-C4B5BCE31DC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CE75-583F-4DA1-A4F3-9E2F5470549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7BF7-172D-4074-AD92-CEF5F7131E4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46A4-5F11-43D9-94CF-4BC83A4CEDE6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C67E-5551-4C57-831E-5F0F8B1409D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96AB-BA9B-42FF-A321-48CFE7D0A76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0F4C-3841-4D85-8318-24F0F8F80CD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3857-2C17-403A-BEB9-16C23D9FAC9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5DA0-39A9-44F3-8684-0CA2DFB9903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C27D-07F4-4C43-AF1F-34395A360DD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ADE1-8F0A-4BFB-AF10-5BD050ACE33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24F9-62EC-45F1-8DE1-577021A055B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FFF8-7898-46EA-AC45-AAC4A5B0C9D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1081-2AB6-4388-851C-B04183ADD0B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5E8C-25E3-473B-9116-AB93A9B4E24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FD6D-18A1-4D5D-8F7F-FB17B5F2C3C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6073-7B9F-49D1-AA99-E4F00888726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FE36-184F-489C-B45F-52AA26CC219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98FC-A825-4B25-AB4C-3DF0DB4E922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0D31-B205-44F8-9123-6515609A504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258E-2580-4537-ABCC-CAD4725F8A6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27A4-FA8E-40F1-BAFE-604CF5B160B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AEFE-8E3D-497B-A846-8EE63B8C2C2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2B9A-1772-479B-98E6-EDBE3B87797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0553-0D50-4C9E-9EA0-327C3B04C7B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634C-3461-41C5-8496-85BBE312750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16FA-218A-40E9-8165-A77FF308A8D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B95-3D4A-48B1-86ED-A0A392C5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A470-5622-4BC7-A728-C66D8E94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F49-BBF1-43E6-96F1-CDCFD8D2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F10-A6F5-4634-A771-1DFBA7F0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9548-F939-43D9-8A9A-2EB53A32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CEB9-494D-4C01-BC53-8BC1C3A9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9BAB-4845-4850-8A26-D73D689B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79B0-3D5F-4D9C-A4BE-0082D849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CEC0-A295-4F0F-A4E1-F802A50E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E47D-74F2-4BFF-8312-E8EA9F8E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C808-3A85-40B7-BF92-70732E59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CF0-47B6-46E4-B5CF-50C62AC7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67BB-9E02-4019-A40E-75DACB83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150A-ACBF-406A-A4CB-157D0973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B5FA-063D-4562-A416-D9D3C393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7106-D3D7-4173-8533-5D390B2E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8AF6-C628-4F5B-A3A0-607D38EC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8C46-0B7F-4BE8-A23E-90AF03B8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E53-43EE-4BA2-A150-5713ADEA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84E-F5DD-4472-AA0B-B67DAE10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BDF-F093-44ED-986F-6C3F89D8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9C2-A9B9-405B-97E0-82BAD3C0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889-F398-4254-8C43-73A80AA0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AA5-EEA1-492C-834F-DEF3350F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400"/>
            <a:ext cx="8556480" cy="1052280"/>
            <a:chOff x="0" y="14400"/>
            <a:chExt cx="8556480" cy="1052280"/>
          </a:xfrm>
        </p:grpSpPr>
        <p:sp>
          <p:nvSpPr>
            <p:cNvPr id="1" name=""/>
            <p:cNvSpPr/>
            <p:nvPr/>
          </p:nvSpPr>
          <p:spPr>
            <a:xfrm>
              <a:off x="673200" y="1224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84080" y="5446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14400"/>
              <a:ext cx="8556480" cy="1052280"/>
              <a:chOff x="0" y="14400"/>
              <a:chExt cx="8556480" cy="105228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122400"/>
                <a:ext cx="43812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360" y="544680"/>
                <a:ext cx="4222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471600"/>
                <a:ext cx="560160" cy="422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35040" y="14400"/>
                <a:ext cx="31680" cy="105228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30120" y="776160"/>
                <a:ext cx="8226360" cy="32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85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B18D-8572-48D8-943B-043CFFAD051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62E03CEA-89F4-49FE-B28E-953972F9696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5</a:t>
            </a:fld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3713-86E1-4556-BB9B-814B1CE9C57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093080" y="1440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Haettenschweiler"/>
              </a:rPr>
              <a:t>CHAPTER nine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3C2B-25D9-4008-8FEE-664BB9A3BA2E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 </a:t>
            </a:r>
            <a:fld id="{62AC6D06-F7F8-4D4C-9D3D-5519ADF36DDC}" type="datetime10">
              <a:rPr b="0" lang="en-US" sz="1400" spc="-1" strike="noStrike">
                <a:solidFill>
                  <a:srgbClr val="1c1c1c"/>
                </a:solidFill>
                <a:latin typeface="Tahoma"/>
              </a:rPr>
              <a:t>17:1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E693-A7D7-41A0-9A49-55D929FE59C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29718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离散数学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Discrete Mathematic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2C3-5315-4153-9CE7-E11101279A7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08E07-7340-44D8-8539-52AD7953D65B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素数的分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续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a50021"/>
                </a:solidFill>
                <a:latin typeface="Symbol"/>
                <a:ea typeface="Symbol"/>
              </a:rPr>
              <a:t>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)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于等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素数个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如 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0)=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=0, 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=1, 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=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=2, 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)=3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123920" y="2276640"/>
            <a:ext cx="6400800" cy="2533320"/>
            <a:chOff x="1123920" y="2276640"/>
            <a:chExt cx="6400800" cy="2533320"/>
          </a:xfrm>
        </p:grpSpPr>
        <p:sp>
          <p:nvSpPr>
            <p:cNvPr id="146" name=""/>
            <p:cNvSpPr/>
            <p:nvPr/>
          </p:nvSpPr>
          <p:spPr>
            <a:xfrm>
              <a:off x="2163960" y="2732040"/>
              <a:ext cx="5360760" cy="20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68    1229    9592    78498    66457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45    1086    8686    72382    6204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.159   1.132   1.104    1.085      1.07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23920" y="2732040"/>
              <a:ext cx="1040040" cy="20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/ln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/ln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63960" y="2276640"/>
              <a:ext cx="5360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23920" y="2276640"/>
              <a:ext cx="1040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23920" y="2276640"/>
              <a:ext cx="640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23920" y="2732040"/>
              <a:ext cx="640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23920" y="4809960"/>
              <a:ext cx="640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23920" y="2276640"/>
              <a:ext cx="0" cy="2533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63960" y="2276640"/>
              <a:ext cx="0" cy="25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24720" y="2276640"/>
              <a:ext cx="0" cy="2533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85840" y="41479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11280" y="5168880"/>
            <a:ext cx="5327640" cy="987480"/>
            <a:chOff x="611280" y="5168880"/>
            <a:chExt cx="5327640" cy="987480"/>
          </a:xfrm>
        </p:grpSpPr>
        <p:sp>
          <p:nvSpPr>
            <p:cNvPr id="158" name=""/>
            <p:cNvSpPr/>
            <p:nvPr/>
          </p:nvSpPr>
          <p:spPr>
            <a:xfrm>
              <a:off x="611280" y="5369040"/>
              <a:ext cx="33098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定理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19.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素数定理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3800520" y="5168880"/>
                  <a:ext cx="2138400" cy="98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lim>
                      </m:limLow>
                      <m:f>
                        <m:num>
                          <m:r>
                            <m:t xml:space="preserve">π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rPr>
                              <m:lit/>
                              <m:nor/>
                            </m:rPr>
                            <m:t xml:space="preserve">/ln</m:t>
                          </m:r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E3F-7B93-4829-A0AA-906A4D5804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68C00-96F0-4890-BE8A-E57BD92358C5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素数测试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39640" y="1268280"/>
            <a:ext cx="7716600" cy="4515840"/>
            <a:chOff x="539640" y="1268280"/>
            <a:chExt cx="7716600" cy="4515840"/>
          </a:xfrm>
        </p:grpSpPr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5892480" y="1268280"/>
                  <a:ext cx="53352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2997000" y="2287440"/>
                  <a:ext cx="53352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>
              <a:off x="539640" y="1295280"/>
              <a:ext cx="7716600" cy="44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定理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11.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如果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合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必有小于等于      的真因子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证  由性质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9.8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c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&lt;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&lt;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显然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必有一个小于等于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否则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&gt;(     )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矛盾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推论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如果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合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必有小于等于       的素因子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证  由定理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有小于等于       的真因子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如果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素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结论成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如果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合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由性质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9.9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和性质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9.5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素因子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≤      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根据性质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1.2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也是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因子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论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成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3778200" y="3762000"/>
                  <a:ext cx="53316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2234880" y="4725720"/>
                  <a:ext cx="53352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5359320" y="3277800"/>
                  <a:ext cx="53316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4978080" y="2287440"/>
                  <a:ext cx="53352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C9D-FA5B-4D80-ADEB-7118AAF821F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12FF8-CAE6-4C21-A83E-66773E70A1CE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611280" y="1341360"/>
            <a:ext cx="8353440" cy="3567960"/>
            <a:chOff x="611280" y="1341360"/>
            <a:chExt cx="8353440" cy="356796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116000" y="1841400"/>
                  <a:ext cx="7621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1979640" y="1841400"/>
                  <a:ext cx="7621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6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"/>
            <p:cNvSpPr/>
            <p:nvPr/>
          </p:nvSpPr>
          <p:spPr>
            <a:xfrm>
              <a:off x="611280" y="1341360"/>
              <a:ext cx="8353440" cy="35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例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判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57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6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否是素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解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都小于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3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小于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素数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: 2, 3, 5, 7, 1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检查结果如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    157, 3    157, 5    157, 7    157, 11    157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论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: 157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素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    161, 3    161, 5    161, 7|16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61=7×2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论：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6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合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1"/>
            <a:srcRect l="0" t="0" r="95968" b="93504"/>
            <a:stretch/>
          </p:blipFill>
          <p:spPr>
            <a:xfrm>
              <a:off x="1116000" y="2920680"/>
              <a:ext cx="25092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2"/>
            <a:srcRect l="0" t="0" r="95968" b="93504"/>
            <a:stretch/>
          </p:blipFill>
          <p:spPr>
            <a:xfrm>
              <a:off x="2195640" y="2920680"/>
              <a:ext cx="2505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3"/>
            <a:srcRect l="0" t="0" r="95968" b="93504"/>
            <a:stretch/>
          </p:blipFill>
          <p:spPr>
            <a:xfrm>
              <a:off x="3276720" y="2920680"/>
              <a:ext cx="2505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4"/>
            <a:srcRect l="0" t="0" r="95968" b="93504"/>
            <a:stretch/>
          </p:blipFill>
          <p:spPr>
            <a:xfrm>
              <a:off x="4356000" y="2920680"/>
              <a:ext cx="25092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5"/>
            <a:srcRect l="0" t="0" r="95968" b="93504"/>
            <a:stretch/>
          </p:blipFill>
          <p:spPr>
            <a:xfrm>
              <a:off x="5580000" y="2920680"/>
              <a:ext cx="25092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6"/>
            <a:srcRect l="0" t="0" r="95968" b="93504"/>
            <a:stretch/>
          </p:blipFill>
          <p:spPr>
            <a:xfrm>
              <a:off x="1152360" y="3929040"/>
              <a:ext cx="25092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7"/>
            <a:srcRect l="0" t="0" r="95968" b="93504"/>
            <a:stretch/>
          </p:blipFill>
          <p:spPr>
            <a:xfrm>
              <a:off x="2195640" y="3929040"/>
              <a:ext cx="2505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8"/>
            <a:srcRect l="0" t="0" r="95968" b="93504"/>
            <a:stretch/>
          </p:blipFill>
          <p:spPr>
            <a:xfrm>
              <a:off x="3276720" y="3929040"/>
              <a:ext cx="250560" cy="3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"/>
          <p:cNvSpPr/>
          <p:nvPr/>
        </p:nvSpPr>
        <p:spPr>
          <a:xfrm>
            <a:off x="1979640" y="260280"/>
            <a:ext cx="6121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例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DB3-5C9F-4DE8-8743-15B51BA50F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544C4-0F06-42B9-BA1A-E06A47F0E728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3520" y="6091200"/>
            <a:ext cx="826920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20920" y="1558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f01"/>
                </a:solidFill>
                <a:latin typeface="Times New Roman"/>
                <a:ea typeface="华文行楷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2      3      4      5      6      7      8      9    1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96880" y="15588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2      3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5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7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9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96880" y="15588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2      3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5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7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    9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1558800"/>
            <a:ext cx="670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2      3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5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7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1    12    13    14    15    16    17    18    19  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1    22    23    24    25    26    27    28    29   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31    32    33    34    35    36    37    38    39  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41    42    43    44    45    46    47    48    49   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1    52    53    54    55    56    57    58    59   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61    62    63    64    65    66    67    68    69   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71    72    73    74    75    76    77    78    79   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81    82    83    84    85    86    87    88    89 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91    92    93    94    95    96    97    98    99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1558800"/>
            <a:ext cx="7010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2      3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5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7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1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13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15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17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19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1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23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25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27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29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31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33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3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35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37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39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41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43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4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45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47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49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1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  52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3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  54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5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  56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7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  58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9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 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61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6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63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65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67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69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71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73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7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75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77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7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79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81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8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83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85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8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87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8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89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91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9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93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9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95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97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9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99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16000" y="155880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2      3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5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7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1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13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17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19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23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25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29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31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3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35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37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3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41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43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47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49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51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   52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3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   54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5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   56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57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   58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9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  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61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65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67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71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73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7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77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7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79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8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83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85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8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89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91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9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95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97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9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155736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2      3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5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7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1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13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17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19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23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29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31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3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37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3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41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43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47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49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51    52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3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   54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55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   56    57    58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9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  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61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67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71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73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7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77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7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79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83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8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89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91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97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1557360"/>
            <a:ext cx="655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2      3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5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7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1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13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17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19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23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29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31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3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37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3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41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43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47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51    52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3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   54    55    56    57    58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9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  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61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67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71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73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7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7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7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79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83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8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89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9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97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9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79640" y="260280"/>
            <a:ext cx="6121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埃拉托斯特尼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Eratosthene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筛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AF7-3F4D-4601-8E69-8B06780DB39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B7D83-6E70-4159-A8CC-B1545387FBC5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440" y="134100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公因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公约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公倍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|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|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两个不全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整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公因子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的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最大公因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最大公约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两个非零整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小的正公倍数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最小公倍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cm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如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(12,18)=6, lcm(12,18)=36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任意的正整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gcd(0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gcd(1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1, lcm(1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19.2</a:t>
            </a: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最大公约数与最小公倍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43E-81F4-40C3-BB2E-368E87B2799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21D28-0781-4565-82EE-8C35EF90F78B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|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|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cm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|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|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|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|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lcm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0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|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|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推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| 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| 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公倍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最小公倍数的定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0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 |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gcd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lcm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然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成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否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|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 |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 |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公因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最大公约数矛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最大公约数与最小公倍数的性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F406-2A2A-43DB-9575-9C0162243D8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FD487-EFC5-4EFC-BAF2-FFE95696EF0C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最大公约数与最小公倍数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续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437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最大公约数和最小公倍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09480" y="1268280"/>
            <a:ext cx="7696440" cy="2891160"/>
            <a:chOff x="609480" y="1268280"/>
            <a:chExt cx="7696440" cy="2891160"/>
          </a:xfrm>
        </p:grpSpPr>
        <p:sp>
          <p:nvSpPr>
            <p:cNvPr id="200" name=""/>
            <p:cNvSpPr/>
            <p:nvPr/>
          </p:nvSpPr>
          <p:spPr>
            <a:xfrm>
              <a:off x="609480" y="1268280"/>
              <a:ext cx="7696440" cy="28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利用整数的素因子分解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求最大公约数和最小公倍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,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,…,p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不同的素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,r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,…,r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,s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,s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,…,s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非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整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gcd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lcm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1752480" y="1725480"/>
                  <a:ext cx="200844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p>
                      </m:sSubSup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p>
                      </m:sSubSup>
                      <m:r>
                        <m:t xml:space="preserve">⋯</m:t>
                      </m:r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  <m:sup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sup>
                      </m:sSub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3911760" y="1751040"/>
                  <a:ext cx="2130120" cy="47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p>
                      </m:sSubSup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p>
                      </m:sSubSup>
                      <m:r>
                        <m:t xml:space="preserve">⋯</m:t>
                      </m:r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  <m:sup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sup>
                      </m:sSub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2689200" y="3020760"/>
                  <a:ext cx="378792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⋯</m:t>
                      </m:r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733840" y="3512880"/>
                  <a:ext cx="3971880" cy="57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⋯</m:t>
                      </m:r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5" name=""/>
          <p:cNvSpPr/>
          <p:nvPr/>
        </p:nvSpPr>
        <p:spPr>
          <a:xfrm>
            <a:off x="611280" y="4897440"/>
            <a:ext cx="8001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50=2×3×5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168=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×3×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(150,168)=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×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×5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×7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cm(150,168)=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×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×5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×7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42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4D3-C4AF-4B20-998B-3CE4432BC97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1B057-E809-4518-8542-D50CEBF7A01B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64785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辗转相除法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 b, q, 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是整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gcd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,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只需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相同的公因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公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|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|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性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.1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|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|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公因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之一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公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|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|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|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|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公因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6C4-0079-435D-BA31-CB51BE08ED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B7A34-63B2-4873-B184-79E984FD0164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189000"/>
            <a:ext cx="6553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辗转相除法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欧几里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Euclid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算法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辗转相除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整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≠0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带余除法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0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|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0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0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带余除法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0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gcd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,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否则重复上述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至余数等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343400"/>
            <a:ext cx="8001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最大公因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15=3×210+85,          210=2×85+4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5=2×40+5,                40=8×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(715, 210)=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7D69-9350-4A78-BFEC-B13DE79E4D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48E0F-88F6-4094-8FC1-D9F8CF008AD3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关于最大公因子的一个定理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全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存在整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 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=r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=r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辗转相除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0, 1,…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上式改写成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i+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i+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i+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,…,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后向前逐个回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就可将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成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线性组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BE4-014E-47FE-917A-24E5956DCDD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AAA97-E64E-4357-8415-910E5F1EDE8C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内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素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公约数与最小公倍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次同余方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欧拉定理与费马小定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等数论在计算机科学技术中的几个应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835280" y="260280"/>
            <a:ext cx="63943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第六部分 初等数论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1B7E-CE0F-4882-A571-CC80E6A033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C8059-FF24-465B-B746-A465E91B5AFC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例题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 gcd(715, 210)=5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15=3×210+85,          210=2×85+40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5=2×40+5,                40=8×5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=8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×4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8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×(2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×85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5×8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×2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5×(7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×21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×2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5×71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×210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EB00-4549-46B8-916A-BA46EBC1949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09C80-DD59-4F75-8034-A9688DB632C4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互素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素的充分必要条件是存在整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得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 必要性可由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.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分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整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公因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|x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|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413000"/>
            <a:ext cx="777240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1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意两个都互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称它们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两两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互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, 9, 11, 3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两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46A-BC35-4228-9095-7375E8530C9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75B85-DEF4-4940-BDB9-B62D9EE3274C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07640" y="189000"/>
            <a:ext cx="63342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例题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|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|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 |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18446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根据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.8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在整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边同乘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x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y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由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|x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|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 |cx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 |cy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 |cx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y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|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7C2-D732-4C90-9C99-D0CF2668F0F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1C712-D805-41EF-B664-2D867C8EEB33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11240" y="189000"/>
            <a:ext cx="61898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9.3 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同余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85800" y="1268280"/>
            <a:ext cx="8001000" cy="3996360"/>
            <a:chOff x="685800" y="1268280"/>
            <a:chExt cx="8001000" cy="3996360"/>
          </a:xfrm>
        </p:grpSpPr>
        <p:pic>
          <p:nvPicPr>
            <p:cNvPr id="223" name="tu1" descr=""/>
            <p:cNvPicPr/>
            <p:nvPr/>
          </p:nvPicPr>
          <p:blipFill>
            <a:blip r:embed="rId1"/>
            <a:srcRect l="0" t="0" r="96060" b="95965"/>
            <a:stretch/>
          </p:blipFill>
          <p:spPr>
            <a:xfrm>
              <a:off x="3124080" y="2319480"/>
              <a:ext cx="30492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tu1" descr=""/>
            <p:cNvPicPr/>
            <p:nvPr/>
          </p:nvPicPr>
          <p:blipFill>
            <a:blip r:embed="rId2"/>
            <a:srcRect l="0" t="0" r="96060" b="95965"/>
            <a:stretch/>
          </p:blipFill>
          <p:spPr>
            <a:xfrm>
              <a:off x="1905120" y="3157560"/>
              <a:ext cx="30456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85800" y="1268280"/>
              <a:ext cx="8001000" cy="39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定义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19.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设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正整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整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如果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称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同余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或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模</a:t>
              </a:r>
              <a:r>
                <a:rPr b="1" i="1" lang="zh-CN" sz="24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同余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记作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≡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mod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如果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不同余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记作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    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mod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 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例如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15≡3(mod 4), 16≡0(mod 4), 14≡</a:t>
              </a:r>
              <a:r>
                <a:rPr b="1" i="1" lang="zh-CN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(mod 4),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5     16(mod 4)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下述两条都是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模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同余的充分必要条件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1)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mod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mod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2)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整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6EB-25FA-4D6E-8464-A03D6452D09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BBAF4-DA87-4C83-A715-AE9C91FC4C2D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同余的性质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性质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余关系是等价关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同余关系具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反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称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缩写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…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性质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1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模算术运算 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±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±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非负整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性质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≥1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性质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≥1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3333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性质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,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3333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FD6-A76F-41B9-9CB9-2554CD862BE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8B1D8-42F5-4EA2-B617-F45EBA5FDE12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模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等价类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模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等价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余关系下的等价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记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余关系下的商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定义加法和乘法如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+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=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,     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·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=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2997360"/>
            <a:ext cx="7925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全部元素以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的加法表和乘法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500280"/>
            <a:ext cx="7543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[0],[1],[2],[3]}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={4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Z}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0,1,2,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143000" y="4076640"/>
            <a:ext cx="2895480" cy="2271960"/>
            <a:chOff x="1143000" y="4076640"/>
            <a:chExt cx="2895480" cy="2271960"/>
          </a:xfrm>
        </p:grpSpPr>
        <p:sp>
          <p:nvSpPr>
            <p:cNvPr id="233" name=""/>
            <p:cNvSpPr/>
            <p:nvPr/>
          </p:nvSpPr>
          <p:spPr>
            <a:xfrm>
              <a:off x="1689120" y="4532400"/>
              <a:ext cx="234936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43000" y="4532400"/>
              <a:ext cx="54612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89120" y="4076640"/>
              <a:ext cx="23493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[0]  [1]  [2]  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43000" y="4076640"/>
              <a:ext cx="5461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43000" y="4076640"/>
              <a:ext cx="2895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43000" y="453240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43000" y="6302520"/>
              <a:ext cx="2895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43000" y="4076640"/>
              <a:ext cx="0" cy="2225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89120" y="4076640"/>
              <a:ext cx="0" cy="222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38480" y="4076640"/>
              <a:ext cx="0" cy="2225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52480" y="4562640"/>
              <a:ext cx="22100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0]  [1]  [2]  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1]  [2]  [3]  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2]  [3]  [0]  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3]  [0]  [1]  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643280" y="4076640"/>
            <a:ext cx="2895480" cy="2239920"/>
            <a:chOff x="4643280" y="4076640"/>
            <a:chExt cx="2895480" cy="2239920"/>
          </a:xfrm>
        </p:grpSpPr>
        <p:sp>
          <p:nvSpPr>
            <p:cNvPr id="245" name=""/>
            <p:cNvSpPr/>
            <p:nvPr/>
          </p:nvSpPr>
          <p:spPr>
            <a:xfrm>
              <a:off x="5189400" y="4532400"/>
              <a:ext cx="234936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43280" y="4532400"/>
              <a:ext cx="54612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89400" y="4076640"/>
              <a:ext cx="23493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[0]  [1]  [2]  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43280" y="4076640"/>
              <a:ext cx="5461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43280" y="4076640"/>
              <a:ext cx="2895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43280" y="453240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3280" y="6302520"/>
              <a:ext cx="2895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3280" y="4076640"/>
              <a:ext cx="0" cy="2225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89400" y="4076640"/>
              <a:ext cx="0" cy="222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38760" y="4076640"/>
              <a:ext cx="0" cy="2225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52760" y="4530600"/>
              <a:ext cx="226692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0]  [0]  [0]  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0]  [1]  [2]  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0]  [2]  [0]  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0]  [3]  [2]  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3E3-62D5-4BD3-8D31-EAA307F8957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10ADF-E8F9-4D37-AB7F-F7C9C39F37C2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6981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4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个位数是多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177336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4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个位数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4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1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2230560"/>
            <a:ext cx="7315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1(mod 10)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4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13+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7(mod 1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4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个位数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85800" y="3357720"/>
            <a:ext cx="7846920" cy="2596680"/>
            <a:chOff x="685800" y="3357720"/>
            <a:chExt cx="7846920" cy="2596680"/>
          </a:xfrm>
        </p:grpSpPr>
        <p:sp>
          <p:nvSpPr>
            <p:cNvPr id="260" name=""/>
            <p:cNvSpPr/>
            <p:nvPr/>
          </p:nvSpPr>
          <p:spPr>
            <a:xfrm>
              <a:off x="685800" y="3357720"/>
              <a:ext cx="7846920" cy="259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例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9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日期的星期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年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日星期数的计算公式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)mod12 +1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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/11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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100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年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: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下一年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年的世纪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1487160" y="4178160"/>
              <a:ext cx="5257440" cy="880560"/>
              <a:chOff x="1487160" y="4178160"/>
              <a:chExt cx="5257440" cy="880560"/>
            </a:xfrm>
          </p:grpSpPr>
          <p:sp>
            <p:nvSpPr>
              <p:cNvPr id="262" name=""/>
              <p:cNvSpPr/>
              <p:nvPr/>
            </p:nvSpPr>
            <p:spPr>
              <a:xfrm>
                <a:off x="2563920" y="4178160"/>
                <a:ext cx="1011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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252960" y="4178160"/>
                <a:ext cx="1011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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35640" y="4178160"/>
                <a:ext cx="1011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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76800" y="4178160"/>
                <a:ext cx="1011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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91080" y="4631760"/>
                <a:ext cx="1011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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534120" y="4631760"/>
                <a:ext cx="1011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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86120" y="4631760"/>
                <a:ext cx="1011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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70520" y="4631760"/>
                <a:ext cx="1011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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453200" y="4631760"/>
                <a:ext cx="1011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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51680" y="4631760"/>
                <a:ext cx="1011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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646320" y="468108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)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489360" y="4681080"/>
                <a:ext cx="1468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7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811480" y="4681080"/>
                <a:ext cx="65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(mod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926960" y="4681080"/>
                <a:ext cx="2934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12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07080" y="4681080"/>
                <a:ext cx="813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/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90520" y="4681080"/>
                <a:ext cx="1468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2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55880" y="4681080"/>
                <a:ext cx="813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/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612600" y="468108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)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49440" y="4681080"/>
                <a:ext cx="1468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7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219480" y="4681080"/>
                <a:ext cx="813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/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55240" y="468108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(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266800" y="4227120"/>
                <a:ext cx="1468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2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25640" y="4227120"/>
                <a:ext cx="1468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2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093920" y="4227120"/>
                <a:ext cx="1468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4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965400" y="4227120"/>
                <a:ext cx="813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/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069720" y="4227120"/>
                <a:ext cx="1468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4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941560" y="4227120"/>
                <a:ext cx="813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/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594040" y="4681080"/>
                <a:ext cx="1468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d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530240" y="4681080"/>
                <a:ext cx="2278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m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83960" y="4681080"/>
                <a:ext cx="2613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M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85560" y="4681080"/>
                <a:ext cx="2613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M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432040" y="4227120"/>
                <a:ext cx="2613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M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65320" y="4227120"/>
                <a:ext cx="195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700080" y="4227120"/>
                <a:ext cx="195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662200" y="4227120"/>
                <a:ext cx="195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X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16000" y="4227120"/>
                <a:ext cx="195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X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87160" y="4227120"/>
                <a:ext cx="195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w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00000" y="4646160"/>
                <a:ext cx="1713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218840" y="4646160"/>
                <a:ext cx="1713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56720" y="4646160"/>
                <a:ext cx="1713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803200" y="4192200"/>
                <a:ext cx="1713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065200" y="4192200"/>
                <a:ext cx="1713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61840" y="419220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401280" y="4192200"/>
                <a:ext cx="1713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329920" y="4192200"/>
                <a:ext cx="1713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747800" y="4192200"/>
                <a:ext cx="2340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例题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E2C8-33E3-4227-B46A-90F13F53C72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E9236-E2D5-406F-BED4-2075C4311CDB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例题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39640" y="1341360"/>
            <a:ext cx="7772400" cy="4495680"/>
            <a:chOff x="539640" y="1341360"/>
            <a:chExt cx="7772400" cy="449568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1219320" y="2270160"/>
                  <a:ext cx="5254560" cy="88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w</m:t>
                          </m:r>
                          <m:r>
                            <m:t xml:space="preserve">≡</m:t>
                          </m:r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  <m:r>
                            <m:t xml:space="preserve">+</m:t>
                          </m:r>
                          <m:d>
                            <m:dPr>
                              <m:begChr m:val="⌊"/>
                              <m:endChr m:val="⌋"/>
                            </m:dP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9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+</m:t>
                          </m:r>
                          <m:d>
                            <m:dPr>
                              <m:begChr m:val="⌊"/>
                              <m:endChr m:val="⌋"/>
                            </m:dP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r>
                            <m:t xml:space="preserve">8</m:t>
                          </m:r>
                          <m:r>
                            <m:t xml:space="preserve">+</m:t>
                          </m:r>
                        </m:e>
                        <m:e>
                          <m:r>
                            <m:t xml:space="preserve"> </m:t>
                          </m:r>
                          <m:d>
                            <m:dPr>
                              <m:begChr m:val="⌊"/>
                              <m:endChr m:val="⌋"/>
                            </m:dPr>
                            <m:e>
                              <m:r>
                                <m:t xml:space="preserve">(</m:t>
                              </m:r>
                              <m:r>
                                <m:t xml:space="preserve">8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⌊"/>
                                  <m:endChr m:val="⌋"/>
                                </m:dP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8</m:t>
                                      </m:r>
                                    </m:num>
                                    <m:den>
                                      <m:r>
                                        <m:t xml:space="preserve">7</m:t>
                                      </m:r>
                                    </m:den>
                                  </m:f>
                                </m:e>
                              </m:d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+</m:t>
                          </m:r>
                          <m:d>
                            <m:dPr>
                              <m:begChr m:val="⌊"/>
                              <m:endChr m:val="⌋"/>
                            </m:dP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8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≡</m:t>
                          </m:r>
                          <m:r>
                            <m:t xml:space="preserve">6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mod</m:t>
                          </m:r>
                          <m:r>
                            <m:t xml:space="preserve">7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1285920" y="4479840"/>
                  <a:ext cx="5427720" cy="88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w</m:t>
                          </m:r>
                          <m:r>
                            <m:t xml:space="preserve">≡</m:t>
                          </m:r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  <m:r>
                            <m:t xml:space="preserve">+</m:t>
                          </m:r>
                          <m:d>
                            <m:dPr>
                              <m:begChr m:val="⌊"/>
                              <m:endChr m:val="⌋"/>
                            </m:dP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+</m:t>
                          </m:r>
                          <m:d>
                            <m:dPr>
                              <m:begChr m:val="⌊"/>
                              <m:endChr m:val="⌋"/>
                            </m:dP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</m:e>
                        <m:e>
                          <m:r>
                            <m:t xml:space="preserve"> </m:t>
                          </m:r>
                          <m:d>
                            <m:dPr>
                              <m:begChr m:val="⌊"/>
                              <m:endChr m:val="⌋"/>
                            </m:dPr>
                            <m:e>
                              <m:r>
                                <m:t xml:space="preserve">(</m:t>
                              </m:r>
                              <m:r>
                                <m:t xml:space="preserve">6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⌊"/>
                                  <m:endChr m:val="⌋"/>
                                </m:dP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6</m:t>
                                      </m:r>
                                    </m:num>
                                    <m:den>
                                      <m:r>
                                        <m:t xml:space="preserve">7</m:t>
                                      </m:r>
                                    </m:den>
                                  </m:f>
                                </m:e>
                              </m:d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+</m:t>
                          </m:r>
                          <m:d>
                            <m:dPr>
                              <m:begChr m:val="⌊"/>
                              <m:endChr m:val="⌋"/>
                            </m:dP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6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 </m:t>
                          </m:r>
                          <m:r>
                            <m:t xml:space="preserve">≡</m:t>
                          </m:r>
                          <m:r>
                            <m:t xml:space="preserve">3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mod</m:t>
                          </m:r>
                          <m:r>
                            <m:t xml:space="preserve">7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13" name=""/>
            <p:cNvSpPr/>
            <p:nvPr/>
          </p:nvSpPr>
          <p:spPr>
            <a:xfrm>
              <a:off x="539640" y="1341360"/>
              <a:ext cx="777240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例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9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例如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华人民共和国成立日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949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年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日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19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49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8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1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星期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国人民抗日战争胜利日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94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年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日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19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45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6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15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星期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FC0-1D58-48CC-83BB-62D757E2D1B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11F6F-06F1-4929-B12E-DCFBBDFD5ED7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9.4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次同余方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3357360"/>
            <a:ext cx="8207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解的充要条件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充分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gcd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.8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式两边同乘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要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方程的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存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性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.1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|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268280"/>
            <a:ext cx="7925040" cy="19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一次同余方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次同余方程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方程成立的整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0(mod 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解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0(mod 2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1(mod 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2F29-2598-45D5-8837-20DE17EC064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C992A-EC3E-4261-8E16-A0CB0AF894F2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例题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一次同余方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3(mod 9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191628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(6,9)=3 | 3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程有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8360" y="2394000"/>
            <a:ext cx="822960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价类的代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 0, 1, 2, 3, 4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检查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们是否是方程的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结果如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×(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≡6×(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≡6×2≡3(mod 9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×(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≡6×0≡6×3≡0(mod 9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×(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≡6×1≡6×4≡6(mod 9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方程的解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 2(mod 9)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程的最小正整数解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956-2F90-4C19-AF8C-2FFC0B8025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F23C2-D290-4343-926A-90D44EEC561F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第十九章  初等数论 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内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素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公约数与最小公倍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次同余方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欧拉定理与费马小定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等数论在计算机科学技术中的几个应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FA2-C13D-4F56-A503-0B46C86F28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8CC19-C574-4C8A-8BB7-5BA0FE9F9381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模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逆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3560" y="2758680"/>
            <a:ext cx="780912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逆存在的充要条件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在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逆是惟一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是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.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直接推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1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1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≡0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0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1197000"/>
            <a:ext cx="78487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1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模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作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方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1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5713-500C-4C8D-B246-9E4E014FAA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87FCC-1D02-404F-830E-073C8C5BE341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例题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13413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逆存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17733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方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1(mod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2205000"/>
            <a:ext cx="7415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检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0,1,2,3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3(mod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2781360"/>
            <a:ext cx="7696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辗转相除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得整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,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得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7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3645000"/>
            <a:ext cx="74865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如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=5+2,  5=2×2+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代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=5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×2=5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×(7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= 3×5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×7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3(mod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5445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接观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5888160"/>
            <a:ext cx="7415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=15, 15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(mod 7)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3(mod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F1C-741A-4EAD-933F-56EA82789AD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A5083-D0D5-4225-A521-4ED6E5254330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6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欧拉函数</a:t>
            </a:r>
            <a:r>
              <a:rPr b="1" i="1" lang="zh-CN" sz="2400" spc="-1" strike="noStrike">
                <a:solidFill>
                  <a:srgbClr val="a50021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)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{0, 1,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素的数的个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如 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= 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=1, 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= 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=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素数时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合数时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欧拉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1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79640" y="189000"/>
            <a:ext cx="62625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9.5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欧拉定理和费马小定理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971-99FB-4D29-B60F-180CC12D2D8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CB132-A7FE-4BF8-A81C-A9556FD9F109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欧拉定理的证明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31880" y="1501920"/>
            <a:ext cx="7924680" cy="4806720"/>
            <a:chOff x="731880" y="1501920"/>
            <a:chExt cx="7924680" cy="4806720"/>
          </a:xfrm>
        </p:grpSpPr>
        <p:sp>
          <p:nvSpPr>
            <p:cNvPr id="337" name=""/>
            <p:cNvSpPr/>
            <p:nvPr/>
          </p:nvSpPr>
          <p:spPr>
            <a:xfrm>
              <a:off x="731880" y="1501920"/>
              <a:ext cx="7924680" cy="48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证 设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…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{0, 1,…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}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互素的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由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互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对每一个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≤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≤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,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也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互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故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在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≤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≤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使得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≡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mod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.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{1,2,…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上的映射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要证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是一个单射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模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逆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存在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也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互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假设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≠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j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zh-CN" sz="2400" spc="-1" strike="noStrike">
                  <a:solidFill>
                    <a:srgbClr val="ffcf01"/>
                  </a:solidFill>
                  <a:latin typeface="Times New Roman"/>
                  <a:ea typeface="华文行楷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=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zh-CN" sz="2400" spc="-1" strike="noStrike">
                  <a:solidFill>
                    <a:srgbClr val="ffcf01"/>
                  </a:solidFill>
                  <a:latin typeface="Times New Roman"/>
                  <a:ea typeface="华文行楷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≡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mod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两边同乘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得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≡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mod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矛盾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得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{1, 2,…,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φ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}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上的单射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当然也是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{1, 2,…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}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上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双射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从而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而        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互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故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≡1(mod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2484360" y="4724280"/>
                  <a:ext cx="4038840" cy="85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p>
                      </m:sSup>
                      <m:nary>
                        <m:naryPr>
                          <m:chr m:val="∏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p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≡</m:t>
                      </m:r>
                      <m:nary>
                        <m:naryPr>
                          <m:chr m:val="∏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p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≡</m:t>
                      </m:r>
                      <m:nary>
                        <m:naryPr>
                          <m:chr m:val="∏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p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mod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1187280" y="5373720"/>
                  <a:ext cx="660600" cy="85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∏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p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B17-D819-454A-B0D7-F9B12A11035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42CEC-6688-4967-AF42-5554EF5D6F9A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费马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Fermat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小定理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费马小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素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1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另一种形式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素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对任意的整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费马小定理提供了一种不用因子分解就能断定一个数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数的新途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4 (mod 9)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断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合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833-80DC-4E37-9F56-C9A2C7E7409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B28CB-D1DE-4919-92E1-CECF80F2BFA2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19.6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初等数论在计算机科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学技术中的几个应用</a:t>
            </a:r>
            <a:endParaRPr b="1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内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生均匀伪随机数的方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密码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214-45DC-4EBF-A4BF-F8FE619F70F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451C5-E411-425C-962C-0C85F4871F56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产生均匀伪随机数的方法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1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随机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机变量的观察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伪随机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(0,1)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上的均匀分布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(0,1)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0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1)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0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线性同余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非负整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模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乘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种子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0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0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递推公式产生伪随机数序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2,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2,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0,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伪随机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6208-D0EC-4577-AD6A-F06D827B1FD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C598A-0989-43A9-A73F-990C407E8F3B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线性同余法与乘同余法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线性同余法产生的序列的质量取决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8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3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,6,3,2,7,6,…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期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8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,0,1,6,7,4,5,2,3,0,1,…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期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0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乘同余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0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≠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线性同余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2,…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常用的均匀伪随机数发生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7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乘同余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它的周期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67BA-31BD-4CC9-B1A8-2D727EA7027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6B57C-C9C5-43D8-867D-343789CFE216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密码学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恺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Caesar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密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密方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ABCDEFGH I J KLMNOPQRS TUVWXY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EFGH I JKLMNO PQRS TUVWXYZ AB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明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SEE YOU TOMORRO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密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VHH BRX WRPRUUR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 4 4 24 14 20 19 14 12 14 17 17 14 2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1 7 7  1  17 23 22 17 15 17 20 20 17 2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加密算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mod 26,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0, 1,…,25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解密算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mod 26,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0, 1,…,2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密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一取定的整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里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3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4DD-FF2E-4611-B77E-01375B5B07D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F94FC-E4BD-4888-B257-C16B56AECB64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加密算法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线性同余加密算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mod 26,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0, 1,…,25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维吉利亚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(Vigenere)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密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明文分成若干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一段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数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密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密算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mod 26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0,1,…,25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 2,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8DFF-77AB-4554-861B-008F649E2E8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CD5AF-2C7D-47A0-902C-BAC03DC197AF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9.1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素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3560" y="3423960"/>
            <a:ext cx="6943680" cy="24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今后只考虑正整数的正因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平凡因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自身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真因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自身之外的因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2,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真因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55640" y="1413000"/>
            <a:ext cx="7993080" cy="1843200"/>
            <a:chOff x="755640" y="1413000"/>
            <a:chExt cx="7993080" cy="184320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rcRect l="0" t="0" r="95968" b="93504"/>
            <a:stretch/>
          </p:blipFill>
          <p:spPr>
            <a:xfrm>
              <a:off x="6227640" y="2421000"/>
              <a:ext cx="2001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55640" y="1413000"/>
              <a:ext cx="7993080" cy="18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设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, 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两个整数，且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≠0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如果存在整数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使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=b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称</a:t>
              </a:r>
              <a:r>
                <a:rPr b="1" i="1" lang="zh-CN" sz="2400" spc="-1" strike="noStrike">
                  <a:solidFill>
                    <a:srgbClr val="a50021"/>
                  </a:solidFill>
                  <a:latin typeface="Times New Roman"/>
                </a:rPr>
                <a:t>a 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被</a:t>
              </a:r>
              <a:r>
                <a:rPr b="1" i="1" lang="zh-CN" sz="2400" spc="-1" strike="noStrike">
                  <a:solidFill>
                    <a:srgbClr val="a50021"/>
                  </a:solidFill>
                  <a:latin typeface="Times New Roman"/>
                </a:rPr>
                <a:t>b 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整除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或 </a:t>
              </a:r>
              <a:r>
                <a:rPr b="1" i="1" lang="zh-CN" sz="2400" spc="-1" strike="noStrike">
                  <a:solidFill>
                    <a:srgbClr val="a50021"/>
                  </a:solidFill>
                  <a:latin typeface="Times New Roman"/>
                </a:rPr>
                <a:t>b 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整除</a:t>
              </a:r>
              <a:r>
                <a:rPr b="1" i="1" lang="zh-CN" sz="2400" spc="-1" strike="noStrike">
                  <a:solidFill>
                    <a:srgbClr val="a50021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记作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此时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又称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倍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因子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把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不整除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记作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   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例如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因子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±1, ±2, ±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±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86CF-3CDB-4A22-A72D-0D96CA76EA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3C717-E4FD-4CF9-B83F-FB895A9C4BFE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RS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公钥密码 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私钥密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密密钥和解密密钥都必须严格保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公钥密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W.Diffie,M.Hellman,1976 )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密密钥公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密密钥保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RSA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公钥密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R. Rivest, A. Shamir, L. Adleeman,1978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大素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明文数字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成若干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一个明文段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密算法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密算法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加密密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公开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,q, 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保密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3801-DEB9-4D2C-9E16-EB60D8EA3CD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30676-4E93-48AD-893A-8954008B4C43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61927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解密算法正确性证明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亦即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d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1(mod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)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+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两种可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欧拉定理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1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d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)+1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妨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整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费马小定理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1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)(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1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1 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419256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而存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边同乘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注意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)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cp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c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)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d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E95-4FFB-4A46-BADB-8427688A335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0787B-0EF6-4CC6-B4E7-ADD13B773CC9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模幂乘运算</a:t>
            </a: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5898960"/>
            <a:ext cx="8269200" cy="3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09480" y="1268280"/>
            <a:ext cx="8001000" cy="2897280"/>
            <a:chOff x="609480" y="1268280"/>
            <a:chExt cx="8001000" cy="2897280"/>
          </a:xfrm>
        </p:grpSpPr>
        <p:grpSp>
          <p:nvGrpSpPr>
            <p:cNvPr id="360" name=""/>
            <p:cNvGrpSpPr/>
            <p:nvPr/>
          </p:nvGrpSpPr>
          <p:grpSpPr>
            <a:xfrm>
              <a:off x="1828800" y="2411280"/>
              <a:ext cx="5105520" cy="1754280"/>
              <a:chOff x="1828800" y="2411280"/>
              <a:chExt cx="5105520" cy="1754280"/>
            </a:xfrm>
          </p:grpSpPr>
          <mc:AlternateContent>
            <mc:Choice xmlns:a14="http://schemas.microsoft.com/office/drawing/2010/main" Requires="a14">
              <p:sp>
                <p:nvSpPr>
                  <p:cNvPr id="361" name=""/>
                  <p:cNvSpPr txBox="1"/>
                  <p:nvPr/>
                </p:nvSpPr>
                <p:spPr>
                  <a:xfrm>
                    <a:off x="1828800" y="2411280"/>
                    <a:ext cx="5105520" cy="53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⋯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62" name=""/>
                  <p:cNvSpPr txBox="1"/>
                  <p:nvPr/>
                </p:nvSpPr>
                <p:spPr>
                  <a:xfrm>
                    <a:off x="1868400" y="3630600"/>
                    <a:ext cx="4357800" cy="53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≡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bSup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bSup>
                        <m:r>
                          <m:t xml:space="preserve">⋯</m:t>
                        </m:r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b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63" name=""/>
            <p:cNvSpPr/>
            <p:nvPr/>
          </p:nvSpPr>
          <p:spPr>
            <a:xfrm>
              <a:off x="609480" y="1268280"/>
              <a:ext cx="8001000" cy="23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模幂乘运算</a:t>
              </a:r>
              <a:r>
                <a:rPr b="1" i="1" lang="zh-CN" sz="24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r>
                <a:rPr b="1" i="1" lang="zh-CN" sz="2400" spc="-1" strike="noStrike" baseline="30000">
                  <a:solidFill>
                    <a:srgbClr val="333399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(mod </a:t>
              </a:r>
              <a:r>
                <a:rPr b="1" i="1" lang="zh-CN" sz="24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设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×2+…+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×2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或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,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于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令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≡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mod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1, 2,…,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,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4EE-FD3B-4EBD-A78C-7E3D32FB2B1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03766-BEEA-41E5-B130-3276A550A943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例题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43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59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43×59=2537,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42×58=2436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3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, B,…, 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依次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0, 01,…,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各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明文段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106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G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密文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106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d 2537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如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13=(1101)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=1+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106≡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31(mod 2537)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(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31)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560(mod 2537)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560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88(mod 2537)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(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88)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01(mod 2537)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106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(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31)×(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88)×(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01)≡2321(mod 2537)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密文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321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5E7-79B8-481A-AFED-0845A99B634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5D7DD-03DC-40C9-A9D7-ED2393527A0B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续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密文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0981.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937(mod 2436)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明文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981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93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2537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如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937=(1110101001)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981,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981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838(mod 2537)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838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05,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(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05)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1325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1325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21,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21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441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441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68,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(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68)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5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(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5)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49,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(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49)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293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81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93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≡981×1325×441×(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5)×(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49)×29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04(mod 2537)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明文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0704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DED-31C7-44DB-A76E-FAFC3064123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0F0FD-9596-45A3-A790-0D614AB3770A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十九章 习题课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内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素数与合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埃拉托斯特尼筛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公约数与最小公倍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辗转相除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价类及其运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次同余方程及有解的充分必要条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欧拉定理与费马小定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生均匀伪随机数的方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密码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922-6E7E-4450-BD6A-F3FAF69B1E8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039AE-612D-4368-8F84-AC2B800A2D22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基本要求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熟练掌握整除、素数、合数的概念及其性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掌握算术基本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熟练地素因子分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会判断素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掌握埃拉托斯特尼筛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熟练掌握最大公约数和最小公倍数的概念及其性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会求最大公约数和最小公倍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掌握辗转相除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熟练掌握互素的概念及其性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熟练掌握同余的概念及其性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掌握一次同余方程的解存在的充分必要条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掌握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概念及存在的充分必要条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会求一次同余方程的解和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掌握欧拉定理和费马小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76A4-A2BC-4574-9AA9-F258F2C918E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2F6FA-4BB2-4B43-9B31-9B75932F89E4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要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续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会做不太难的证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了解初等数论在伪随机数生成和密码学中的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掌握产生均匀伪随机数的线性同余法和乘同余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知道明文、密文、加密、解密、密钥、私钥密码和公钥密码等概念，了解恺撒密码、维吉利亚密码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钥密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F234-84EA-4AE1-9689-15A2C2082B6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4C10D-230D-418B-86E5-03D145191856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6121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418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断下述命题是真是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3|-12;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3|8;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0|8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-21|0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) 527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65(mod 15);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6) 215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175(mod 13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4836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48360" y="31161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48360" y="39085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48360" y="2179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48360" y="26114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48360" y="34765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EDA1-ECC7-4C32-B424-9DEC7A6932D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3E8A7-7957-4EBF-B402-6C0E85BEFEEF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最大公约数和最小公倍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1979640" y="260280"/>
            <a:ext cx="6121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84" name=""/>
          <p:cNvSpPr/>
          <p:nvPr/>
        </p:nvSpPr>
        <p:spPr>
          <a:xfrm>
            <a:off x="684360" y="188136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方法一 利用整数的素因子分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80=23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,  180=2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(280,180)=2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=20,   lcm(280,180)=23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=25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3357720"/>
            <a:ext cx="77724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二 用辗转相除法和公式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gcd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cm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80=180+1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0=100+8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0=80+2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0=4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(280,180)=20,  lcm(280,180)=280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0/20=252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34B3-2BD7-4B24-A709-69EFB43767C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01C03-BD68-4680-85CD-93D875734E22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8920" y="158760"/>
            <a:ext cx="779328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整除的性质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3429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性质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|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|c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| x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性质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|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|c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|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性质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≠0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|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且仅当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a | m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性质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|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| a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±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性质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|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≠0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|a|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|b|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413000"/>
            <a:ext cx="792504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带余除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=qb+r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|,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余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=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20 mod 6=2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 mod 4=3, 10 mod 2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256536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且仅当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D00-0184-47C1-96B3-A3265C01F4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4CA21-3CE0-4F98-8A78-6A3327331078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(1) 2100mod 11;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979640" y="260280"/>
            <a:ext cx="6121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1700280"/>
            <a:ext cx="63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方法一  用带余除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100=190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+10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100mod 11=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2635200"/>
            <a:ext cx="77724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二  利用同余的性质化简计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100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-1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-1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-1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(mod 11)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100mod 11=1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4221000"/>
            <a:ext cx="4102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 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7240" y="4724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40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(mod 31)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d 31=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2D0-381A-423F-8EB8-65008454F4F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FCA89-8F36-4BC1-A2F4-96F059CA19CA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69800" y="112536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逆是否存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存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给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1979640" y="260280"/>
            <a:ext cx="6121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4" name=""/>
          <p:cNvSpPr/>
          <p:nvPr/>
        </p:nvSpPr>
        <p:spPr>
          <a:xfrm>
            <a:off x="468360" y="155736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.10, 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逆存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69800" y="1989000"/>
            <a:ext cx="806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一  直接观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难看出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(mod 3)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od 3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1600" y="2492280"/>
            <a:ext cx="82771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二  检查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价类的代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,1,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检查结果如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(mod 3),  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(mod 3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(mod 3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(mod 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5280" y="4221000"/>
            <a:ext cx="82771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三 用辗转相除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如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=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+2,  3=2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=3-2=3-(8-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=3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8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-1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(mod 3), 8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(mod 3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A8D-13FE-4558-934F-00509303B05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1265B-356B-4132-A2DF-FEBC59BED449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539640" y="1267920"/>
            <a:ext cx="81345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利用费马小定理证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素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1979640" y="260280"/>
            <a:ext cx="6121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9640" y="1700280"/>
            <a:ext cx="7561440" cy="504720"/>
            <a:chOff x="539640" y="1700280"/>
            <a:chExt cx="7561440" cy="50472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rcRect l="0" t="0" r="96060" b="95965"/>
            <a:stretch/>
          </p:blipFill>
          <p:spPr>
            <a:xfrm>
              <a:off x="3780000" y="1844640"/>
              <a:ext cx="27144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539640" y="1700280"/>
              <a:ext cx="7561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证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10-1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-3)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-27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    1(mod 10)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得证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不是素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9225-C093-4AF1-8F81-2659AB8455C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42A21-06BF-41B8-A33D-CDF3E5213138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素数与合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3560" y="2593440"/>
            <a:ext cx="7809120" cy="35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性质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1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素数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|  p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性质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素数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 | ab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必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 | 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者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 |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素数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 | 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…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必存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| 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素数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 | 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一定能推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| 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 |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性质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合数当且仅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c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性质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数必有素数因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268280"/>
            <a:ext cx="784836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9.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只能被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自身整除的正整数称为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素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质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不是素数的正整数称为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合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2,3,5,7,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素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4,6,8,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合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433D-851D-44E9-A58A-275F845F6C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DF6AF-9777-432B-A918-55125F724FEE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算术基本定理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85800" y="1268280"/>
            <a:ext cx="7924680" cy="4747320"/>
            <a:chOff x="685800" y="1268280"/>
            <a:chExt cx="7924680" cy="4747320"/>
          </a:xfrm>
        </p:grpSpPr>
        <p:sp>
          <p:nvSpPr>
            <p:cNvPr id="128" name=""/>
            <p:cNvSpPr/>
            <p:nvPr/>
          </p:nvSpPr>
          <p:spPr>
            <a:xfrm>
              <a:off x="685800" y="1268280"/>
              <a:ext cx="7924680" cy="47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定理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19.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算术基本定理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设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&gt;1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                  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,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,…,p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不相同的素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,r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,…,r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正整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并且在不计顺序的情况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该表示是惟一的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该表达式称作整数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素因子分解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例如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0=2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5, 117=3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3, 1024=2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推论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设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=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中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, 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,…,p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不相同的素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,r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,…,r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正整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正整数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因子的充分必要条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                   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0≤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≤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1,2,…,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638680" y="1277640"/>
                  <a:ext cx="144792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p>
                      </m:sSubSup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p>
                      </m:sSubSup>
                      <m:r>
                        <m:t xml:space="preserve">⋯</m:t>
                      </m:r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  <m:sup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2133720" y="4071600"/>
                  <a:ext cx="144756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p>
                      </m:sSubSup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p>
                      </m:sSubSup>
                      <m:r>
                        <m:t xml:space="preserve">⋯</m:t>
                      </m:r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  <m:sup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1397160" y="5138640"/>
                  <a:ext cx="1574640" cy="52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p>
                      </m:sSubSup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p>
                      </m:sSubSup>
                      <m:r>
                        <m:t xml:space="preserve">⋯</m:t>
                      </m:r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  <m:sup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526E-7B2D-4A2F-AF68-DE833A34FFD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59716-6389-4C2E-95D3-E63F049F90A9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例题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0951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215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多少个正因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628640"/>
            <a:ext cx="8001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1560=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×5×7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×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推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215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正因子的个数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×2×3×2=4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8274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10!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二进制表示中从最低位数起有多少个连续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357720"/>
            <a:ext cx="79250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, 3, 4=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5, 6=2×3, 7, 8=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9=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10=2×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!=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×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×5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×7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77216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!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二进制表示中从最低位数起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连续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6C7-FC63-46F7-8B0E-8CAAEE06D5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61A18-0C7E-48FE-BAFD-0985E07E0BF7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素数的分布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3284640"/>
            <a:ext cx="80010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梅森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arin Mersenne): 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素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合数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定是合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(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…+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梅森数可能是素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能是合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=3, 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=7, 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=31, 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=1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是素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=2047=23×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合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找到的最大梅森素数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3466917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百万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09480" y="1268280"/>
            <a:ext cx="7925040" cy="1817280"/>
            <a:chOff x="609480" y="1268280"/>
            <a:chExt cx="7925040" cy="1817280"/>
          </a:xfrm>
        </p:grpSpPr>
        <p:sp>
          <p:nvSpPr>
            <p:cNvPr id="141" name=""/>
            <p:cNvSpPr/>
            <p:nvPr/>
          </p:nvSpPr>
          <p:spPr>
            <a:xfrm>
              <a:off x="609480" y="1268280"/>
              <a:ext cx="7925040" cy="18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定理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19.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有无穷多个素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证   用反证法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假设只有有穷多个素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设为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,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,…,p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令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=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…p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+1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显然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66"/>
                  </a:solidFill>
                  <a:latin typeface="Arial"/>
                  <a:ea typeface="华文行楷"/>
                </a:rPr>
                <a:t>  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≤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≤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因此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要么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本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素数，要么存在大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素数整除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矛盾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rcRect l="0" t="0" r="95968" b="93504"/>
            <a:stretch/>
          </p:blipFill>
          <p:spPr>
            <a:xfrm>
              <a:off x="3995640" y="2081160"/>
              <a:ext cx="250920" cy="3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6F3-429E-4722-A10C-4E21324DDF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E2E23-6AB8-4223-85AA-0D2D689ED993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08:47:55Z</dcterms:created>
  <dc:creator>hlj</dc:creator>
  <dc:description/>
  <dc:language>en-US</dc:language>
  <cp:lastModifiedBy>999宝藏网</cp:lastModifiedBy>
  <dcterms:modified xsi:type="dcterms:W3CDTF">2012-05-17T01:01:14Z</dcterms:modified>
  <cp:revision>219</cp:revision>
  <dc:subject>ch1</dc:subject>
  <dc:title>lisan</dc:title>
</cp:coreProperties>
</file>